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196-4B93-4C33-93D0-369C568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818-A6E9-49D0-B314-280DB0A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73F-E390-47A5-A9FE-A0266843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F02-7810-489A-AD71-40F6A4B7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D2C-8E8F-46E9-B43F-2B4FB73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2B9-761D-4A43-8CB2-5C546843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41F-D264-428F-8991-D2EAFC0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820-7B8C-4D00-AFBD-20BEF90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43A-19A0-4A54-944E-EDA3B6F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1A7-D448-4A46-8197-EA977E8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ADD-85ED-4ED1-9282-40A0EA02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1E0-A540-4F92-92EC-E8D19BA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6470-FE93-4D57-8352-454D1857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9.png"/><Relationship Id="rId15" Type="http://schemas.openxmlformats.org/officeDocument/2006/relationships/image" Target="../media/image12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5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9.png"/><Relationship Id="rId16" Type="http://schemas.openxmlformats.org/officeDocument/2006/relationships/image" Target="../media/image11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66880" y="426096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33920" y="586116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7960" y="1905120"/>
            <a:ext cx="822024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14600" y="3049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Rounded MT Bold"/>
              </a:rPr>
              <a:t>HIDE &amp; SEEK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7520" y="76320"/>
            <a:ext cx="292428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44792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Rounded MT Bold"/>
              </a:rPr>
              <a:t>Preposi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6781680" y="5257800"/>
            <a:ext cx="2057400" cy="1454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1432000">
            <a:off x="7118280" y="6067080"/>
            <a:ext cx="15699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PLA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2743200" y="4876920"/>
            <a:ext cx="68580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4"/>
          <a:stretch/>
        </p:blipFill>
        <p:spPr>
          <a:xfrm>
            <a:off x="2514600" y="6165720"/>
            <a:ext cx="685800" cy="5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5"/>
          <a:stretch/>
        </p:blipFill>
        <p:spPr>
          <a:xfrm>
            <a:off x="6400800" y="525780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6"/>
          <a:stretch/>
        </p:blipFill>
        <p:spPr>
          <a:xfrm>
            <a:off x="762120" y="60336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7"/>
          <a:stretch/>
        </p:blipFill>
        <p:spPr>
          <a:xfrm>
            <a:off x="3200400" y="236232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8"/>
          <a:stretch/>
        </p:blipFill>
        <p:spPr>
          <a:xfrm>
            <a:off x="457200" y="56386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9"/>
          <a:stretch/>
        </p:blipFill>
        <p:spPr>
          <a:xfrm>
            <a:off x="8153280" y="22096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0"/>
          <a:stretch/>
        </p:blipFill>
        <p:spPr>
          <a:xfrm>
            <a:off x="7162920" y="22096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1"/>
          <a:stretch/>
        </p:blipFill>
        <p:spPr>
          <a:xfrm>
            <a:off x="5181480" y="2209680"/>
            <a:ext cx="685800" cy="5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2"/>
          <a:stretch/>
        </p:blipFill>
        <p:spPr>
          <a:xfrm>
            <a:off x="6172200" y="2209680"/>
            <a:ext cx="68580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21063600">
            <a:off x="2362320" y="2418840"/>
            <a:ext cx="1295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934320" y="47242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3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143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under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5"/>
          <a:stretch/>
        </p:blipFill>
        <p:spPr>
          <a:xfrm>
            <a:off x="2133720" y="3095640"/>
            <a:ext cx="4438440" cy="3457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716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4010040" y="2286000"/>
            <a:ext cx="17812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 rot="21025800">
            <a:off x="2437920" y="257184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21360" y="4724280"/>
            <a:ext cx="2006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on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0.44097 L 0.1151 0.26204 L 0.3934 0.26875 L 0.3934 -0.02454 L 0.25833 -0.02917 L 0.25677 -0.13333 L 0.14166 -0.13333 L 0.14166 -0.3 L -0.00156 -0.3 L 2.5E-006 -0.00023 E">
                                      <p:cBhvr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10040" y="2590920"/>
            <a:ext cx="1781280" cy="1447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 rot="20818800">
            <a:off x="2514240" y="2343240"/>
            <a:ext cx="1295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29560" y="470844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63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in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0.44097 L 0.1151 0.26204 L 0.3934 0.26875 L 0.3934 -0.02454 L 0.25833 -0.02917 L 0.25677 -0.13333 L 0.14166 -0.13333 L 0.14166 -0.3 L -0.00156 -0.3 L 2.5E-006 -0.00023 E">
                                      <p:cBhvr>
                                        <p:cTn id="14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133720" y="2943360"/>
            <a:ext cx="4438440" cy="30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019320" y="5181480"/>
            <a:ext cx="1781280" cy="144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 rot="21063600">
            <a:off x="2362320" y="2418840"/>
            <a:ext cx="1295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34320" y="4648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4648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1143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in front of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39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024 0.02431 L 0.0691 -0.15463 L 0.3474 -0.14792 L 0.3474 -0.4412 L 0.21233 -0.44583 L 0.21077 -0.55 L 0.09566 -0.55 L 0.09566 -0.71667 L -0.04757 -0.71667 L -0.05086 -0.00555 E"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6858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638680" y="3505320"/>
            <a:ext cx="1447920" cy="117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20187600">
            <a:off x="2666520" y="2438280"/>
            <a:ext cx="12956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46623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1143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near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67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17 0.32199 L -0.09983 0.14305 L 0.17847 0.14977 L 0.17847 -0.14352 L 0.0434 -0.14815 L 0.04184 -0.25232 L -0.07327 -0.25232 L -0.07327 -0.41898 L -0.2165 -0.41898 L -0.15747 -0.29445 L -0.35243 -0.30116 L -0.35243 -0.16343 L -0.16424 -0.15232 L -0.02084 -0.00787 E">
                                      <p:cBhvr>
                                        <p:cTn id="31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0393400">
            <a:off x="2209680" y="259056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934320" y="466236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4"/>
          <a:stretch/>
        </p:blipFill>
        <p:spPr>
          <a:xfrm>
            <a:off x="3276720" y="3733920"/>
            <a:ext cx="1780920" cy="1447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1143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behind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93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685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4 0.23542 L 0.05694 0.05648 L 0.33524 0.06319 L 0.33524 -0.23009 L 0.20017 -0.23472 L 0.19861 -0.33889 L 0.08351 -0.33889 L 0.08351 -0.50556 L -0.21406 -0.50324 L -0.21076 -0.32106 L -0.01406 -0.31898 L -0.01406 0.00556 E">
                                      <p:cBhvr>
                                        <p:cTn id="39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514600" y="3989520"/>
            <a:ext cx="3809880" cy="2639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 rot="20301000">
            <a:off x="2209680" y="3581280"/>
            <a:ext cx="12956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34320" y="47242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3324240" y="1857240"/>
            <a:ext cx="2314440" cy="2714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7720" y="126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above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220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716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2819520" y="3657600"/>
            <a:ext cx="3962160" cy="2746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 rot="20554200">
            <a:off x="2666520" y="304812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934320" y="47242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3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6623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1143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next to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6"/>
          <a:stretch/>
        </p:blipFill>
        <p:spPr>
          <a:xfrm>
            <a:off x="1628640" y="4648320"/>
            <a:ext cx="1648080" cy="1447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3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4 0.16111 L 0.09028 -0.05463 L 0.36858 -0.04791 L 0.36858 -0.3412 L 0.23351 -0.34583 L 0.23194 -0.45 L 0.11684 -0.45 L 0.11684 -0.61666 L -0.02639 -0.61666 L 0.03507 -0.32106 L 0.0118 0.00556 E">
                                      <p:cBhvr>
                                        <p:cTn id="55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752480" y="4648320"/>
            <a:ext cx="2133720" cy="1479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3629160" y="4648320"/>
            <a:ext cx="1780920" cy="1447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666880" y="304812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934320" y="464832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1143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between the ha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7"/>
          <a:stretch/>
        </p:blipFill>
        <p:spPr>
          <a:xfrm>
            <a:off x="4724280" y="4800600"/>
            <a:ext cx="2133720" cy="1479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71604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073 0.04653 L -0.00139 -0.1324 L 0.27691 -0.12569 L 0.27691 -0.41898 L 0.0257 -0.4324 L 0.01233 -0.61227 L -0.14427 -0.5456 L -0.27101 -0.35463 L -0.03767 -0.00787 E">
                                      <p:cBhvr>
                                        <p:cTn id="63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4:39:27Z</dcterms:created>
  <dc:creator>Gabi</dc:creator>
  <dc:description/>
  <dc:language>en-US</dc:language>
  <cp:lastModifiedBy>Gabi</cp:lastModifiedBy>
  <dcterms:modified xsi:type="dcterms:W3CDTF">2009-05-29T14:39:48Z</dcterms:modified>
  <cp:revision>1</cp:revision>
  <dc:subject/>
  <dc:title>Slide 1</dc:title>
</cp:coreProperties>
</file>